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CBFA-34F6-4440-BBB7-18E631B81D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D898-473E-4802-9545-6FF39EC208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7DAF-6974-4D55-9CA0-5AFD0250BB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60AE-BBCB-4720-A005-4350757FF5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5923-D5E9-4444-AD3A-D7FB88AD88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FC62-E47F-41C9-BEC3-7E0F6BC519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E638-8F07-464D-8955-1C511D1D1F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A418-4785-49AA-9898-8EC8197466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ED1E-2EF5-492B-A28E-6A43C4F784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804F-6541-4E78-8F58-905AE3E8F9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12E6-4DEB-4785-AD01-8828BEE1D1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9BE-7819-46F8-9805-BD7BE4FD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880-E570-4105-B625-047A1F84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3D1-2ECE-4F2E-BD64-26B8E6C0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854-5474-4A53-8C9A-B38858FB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B24-A893-48B2-A68A-9102F382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714-F395-420F-9834-4587AFA8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66A-DA4F-4EA1-97E7-47C030C1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BE2-816E-4258-BA41-B119B467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6A5-5D92-4CB8-AA3E-4209BB7A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EDD-84BA-4A9F-B596-321774A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DF1-1BB5-464F-8914-16F8711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38B-7607-4BD6-8BC3-4CEE5396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6274-6CA5-43BA-AE54-A2918E1A0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slide" Target="slide17.xml"/><Relationship Id="rId4" Type="http://schemas.openxmlformats.org/officeDocument/2006/relationships/image" Target="../media/image7.png"/><Relationship Id="rId5" Type="http://schemas.openxmlformats.org/officeDocument/2006/relationships/slide" Target="slide18.xml"/><Relationship Id="rId6" Type="http://schemas.openxmlformats.org/officeDocument/2006/relationships/image" Target="../media/image8.png"/><Relationship Id="rId7" Type="http://schemas.openxmlformats.org/officeDocument/2006/relationships/slide" Target="slide19.xml"/><Relationship Id="rId8" Type="http://schemas.openxmlformats.org/officeDocument/2006/relationships/image" Target="../media/image9.png"/><Relationship Id="rId9" Type="http://schemas.openxmlformats.org/officeDocument/2006/relationships/slide" Target="slide20.xm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6;&#1085;&#1072;&#1074;&#1090;" TargetMode="External"/><Relationship Id="rId2" Type="http://schemas.openxmlformats.org/officeDocument/2006/relationships/hyperlink" Target="http://www.online812.ru/2010/04/12/003/pd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2030760" y="500040"/>
            <a:ext cx="51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СОУ школа № 10 </a:t>
            </a:r>
            <a:r>
              <a:rPr b="1" lang="en-US" sz="2000" spc="-1" strike="noStrike">
                <a:solidFill>
                  <a:srgbClr val="17375e"/>
                </a:solidFill>
                <a:latin typeface="Georgia"/>
              </a:rPr>
              <a:t>VIII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города Ступино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"/>
          <p:cNvSpPr/>
          <p:nvPr/>
        </p:nvSpPr>
        <p:spPr>
          <a:xfrm>
            <a:off x="1285920" y="1857240"/>
            <a:ext cx="6643800" cy="250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Викторина «Космическ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000680" y="521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асатин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4"/>
          <p:cNvSpPr/>
          <p:nvPr/>
        </p:nvSpPr>
        <p:spPr>
          <a:xfrm>
            <a:off x="878760" y="928800"/>
            <a:ext cx="776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осмонавт, первый  соверши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ыход в открытый косм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йл Армстр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Алексей Ле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9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9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9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0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4"/>
          <p:cNvSpPr/>
          <p:nvPr/>
        </p:nvSpPr>
        <p:spPr>
          <a:xfrm>
            <a:off x="1398240" y="928800"/>
            <a:ext cx="682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полёт Юрия Гага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дл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8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3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1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1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2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2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4"/>
          <p:cNvSpPr/>
          <p:nvPr/>
        </p:nvSpPr>
        <p:spPr>
          <a:xfrm>
            <a:off x="797400" y="107172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амый  пожилой космонавт Джон Г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овершил свой полёт 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7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89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6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3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4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4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4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4"/>
          <p:cNvSpPr/>
          <p:nvPr/>
        </p:nvSpPr>
        <p:spPr>
          <a:xfrm>
            <a:off x="1676880" y="714240"/>
            <a:ext cx="60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алентина Терешк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а свой полё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 космическом корабл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Союз – 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8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Скругленный прямоугольник 2"/>
          <p:cNvSpPr/>
          <p:nvPr/>
        </p:nvSpPr>
        <p:spPr>
          <a:xfrm>
            <a:off x="1500120" y="1785960"/>
            <a:ext cx="64296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Фина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1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2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1"/>
          <p:cNvSpPr/>
          <p:nvPr/>
        </p:nvSpPr>
        <p:spPr>
          <a:xfrm>
            <a:off x="2643120" y="64296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6"/>
          <p:cNvSpPr/>
          <p:nvPr/>
        </p:nvSpPr>
        <p:spPr>
          <a:xfrm>
            <a:off x="2643120" y="164304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иль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7"/>
          <p:cNvSpPr/>
          <p:nvPr/>
        </p:nvSpPr>
        <p:spPr>
          <a:xfrm>
            <a:off x="2643120" y="264312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рганизм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8"/>
          <p:cNvSpPr/>
          <p:nvPr/>
        </p:nvSpPr>
        <p:spPr>
          <a:xfrm>
            <a:off x="2643120" y="364320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емные 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9"/>
          <p:cNvSpPr/>
          <p:nvPr/>
        </p:nvSpPr>
        <p:spPr>
          <a:xfrm>
            <a:off x="2643120" y="464328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амый - са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Овал 10"/>
          <p:cNvGrpSpPr/>
          <p:nvPr/>
        </p:nvGrpSpPr>
        <p:grpSpPr>
          <a:xfrm>
            <a:off x="1494000" y="585720"/>
            <a:ext cx="938160" cy="919080"/>
            <a:chOff x="1494000" y="585720"/>
            <a:chExt cx="938160" cy="919080"/>
          </a:xfrm>
        </p:grpSpPr>
        <p:pic>
          <p:nvPicPr>
            <p:cNvPr id="283" name="Овал 10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494000" y="585720"/>
              <a:ext cx="9381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685880" y="75564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Овал 11"/>
          <p:cNvGrpSpPr/>
          <p:nvPr/>
        </p:nvGrpSpPr>
        <p:grpSpPr>
          <a:xfrm>
            <a:off x="1487520" y="1584360"/>
            <a:ext cx="944640" cy="920880"/>
            <a:chOff x="1487520" y="1584360"/>
            <a:chExt cx="944640" cy="920880"/>
          </a:xfrm>
        </p:grpSpPr>
        <p:pic>
          <p:nvPicPr>
            <p:cNvPr id="286" name="Овал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487520" y="158436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685880" y="1755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Овал 12"/>
          <p:cNvGrpSpPr/>
          <p:nvPr/>
        </p:nvGrpSpPr>
        <p:grpSpPr>
          <a:xfrm>
            <a:off x="1487520" y="2584440"/>
            <a:ext cx="944640" cy="920880"/>
            <a:chOff x="1487520" y="2584440"/>
            <a:chExt cx="944640" cy="920880"/>
          </a:xfrm>
        </p:grpSpPr>
        <p:pic>
          <p:nvPicPr>
            <p:cNvPr id="289" name="Овал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487520" y="258444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685880" y="27558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Овал 13"/>
          <p:cNvGrpSpPr/>
          <p:nvPr/>
        </p:nvGrpSpPr>
        <p:grpSpPr>
          <a:xfrm>
            <a:off x="1481040" y="3584520"/>
            <a:ext cx="957240" cy="920880"/>
            <a:chOff x="1481040" y="3584520"/>
            <a:chExt cx="957240" cy="920880"/>
          </a:xfrm>
        </p:grpSpPr>
        <p:pic>
          <p:nvPicPr>
            <p:cNvPr id="292" name="Овал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1481040" y="358452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685880" y="375588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Овал 14"/>
          <p:cNvGrpSpPr/>
          <p:nvPr/>
        </p:nvGrpSpPr>
        <p:grpSpPr>
          <a:xfrm>
            <a:off x="1494000" y="4657680"/>
            <a:ext cx="938160" cy="920880"/>
            <a:chOff x="1494000" y="4657680"/>
            <a:chExt cx="938160" cy="920880"/>
          </a:xfrm>
        </p:grpSpPr>
        <p:pic>
          <p:nvPicPr>
            <p:cNvPr id="295" name="Овал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494000" y="4657680"/>
              <a:ext cx="938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685880" y="48276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оугольник 16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17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Georgia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428760" y="785880"/>
            <a:ext cx="300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животные первыми обле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окр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Лу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2643120" y="492912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Черепах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Группа 7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04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Picture 2" descr="F:\новинка\142.jpg"/>
          <p:cNvPicPr/>
          <p:nvPr/>
        </p:nvPicPr>
        <p:blipFill>
          <a:blip r:embed="rId2"/>
          <a:stretch/>
        </p:blipFill>
        <p:spPr>
          <a:xfrm>
            <a:off x="3514680" y="1000080"/>
            <a:ext cx="484812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500040" y="857160"/>
            <a:ext cx="4000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ой художественный фильм обязательно смотрят российские космонав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ед полё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"/>
          <p:cNvSpPr/>
          <p:nvPr/>
        </p:nvSpPr>
        <p:spPr>
          <a:xfrm>
            <a:off x="1442160" y="5143680"/>
            <a:ext cx="61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«Белое солнце пусты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Группа 5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1" name="Прямоугольник 6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Овал 7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Прямоугольник 8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F:\новинка\1239767510_1111.jpg"/>
          <p:cNvPicPr/>
          <p:nvPr/>
        </p:nvPicPr>
        <p:blipFill>
          <a:blip r:embed="rId2"/>
          <a:stretch/>
        </p:blipFill>
        <p:spPr>
          <a:xfrm>
            <a:off x="4572000" y="642960"/>
            <a:ext cx="371484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642960" y="71424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космосе давление влияет на позвоночный столб человека. Что происхо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 ростом космонав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059480" y="500076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Рост немного увелич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9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357880" y="642960"/>
            <a:ext cx="3000240" cy="44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500040" y="571680"/>
            <a:ext cx="328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земные рукотворные объекты видны из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564200" y="500076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Египетские пирам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27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F:\новинка\piramidi-di-giza-sulla-terra.jpg"/>
          <p:cNvPicPr/>
          <p:nvPr/>
        </p:nvPicPr>
        <p:blipFill>
          <a:blip r:embed="rId2"/>
          <a:srcRect l="1586" t="1980" r="1586" b="2780"/>
          <a:stretch/>
        </p:blipFill>
        <p:spPr>
          <a:xfrm>
            <a:off x="4071960" y="785880"/>
            <a:ext cx="435780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1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642960" y="785880"/>
            <a:ext cx="428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длинный полёт совершил Валерий Поляков. Сколько су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он длил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3570480" y="492912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438 су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35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000760" y="785880"/>
            <a:ext cx="3214440" cy="414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Скругленный прямоугольник 1"/>
          <p:cNvSpPr/>
          <p:nvPr/>
        </p:nvSpPr>
        <p:spPr>
          <a:xfrm>
            <a:off x="857160" y="1428840"/>
            <a:ext cx="757260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Поздравляем с победо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54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2"/>
          <p:cNvSpPr/>
          <p:nvPr/>
        </p:nvSpPr>
        <p:spPr>
          <a:xfrm>
            <a:off x="2000160" y="500040"/>
            <a:ext cx="542952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спользова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642960" y="1331280"/>
            <a:ext cx="7572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://ru.wikipedia.org/wiki/%D0%9A%D0%BE%D1%81%D0%BC%D0%BE%D0%BD%D0%B0%D0%B2%D1%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://www.online812.ru/2010/04/12/003/pda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www.liveinternet.ru/users/madonion2008/post121023581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epizodsspace.testpilot.ru/bibl/energia-50/14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altocasertano.files.wordpress.com/2010/04/piramidi-di-giza-sulla-terra.jpg?w=510&amp;h=4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kinogazeta.ru/uploads/posts/2009-04/1239767510_11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2055240" y="1000080"/>
            <a:ext cx="537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 полёт в косм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Герман Т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ергей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795960" y="1000080"/>
            <a:ext cx="761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 звали собак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тали первопроходцами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ай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о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жер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Лёле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елка и Стр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8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8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8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9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866160" y="928800"/>
            <a:ext cx="75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раз, находясь на орб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можно наблюдать восх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6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Ни 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0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0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0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1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4"/>
          <p:cNvSpPr/>
          <p:nvPr/>
        </p:nvSpPr>
        <p:spPr>
          <a:xfrm>
            <a:off x="1392480" y="785880"/>
            <a:ext cx="624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молодой косм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Герман Титов соверш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вой полёт 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8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3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2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2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3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3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951840" y="642960"/>
            <a:ext cx="720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женщин – космонав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счит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современном ми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4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5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5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5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2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4"/>
          <p:cNvSpPr/>
          <p:nvPr/>
        </p:nvSpPr>
        <p:spPr>
          <a:xfrm>
            <a:off x="792360" y="1000080"/>
            <a:ext cx="76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американский астр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 свой пол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2 апр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 авгу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8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 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7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7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7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8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42:03Z</dcterms:created>
  <dc:creator>Admin</dc:creator>
  <dc:description/>
  <dc:language>en-US</dc:language>
  <cp:lastModifiedBy>Admin</cp:lastModifiedBy>
  <dcterms:modified xsi:type="dcterms:W3CDTF">2011-04-02T18:24:17Z</dcterms:modified>
  <cp:revision>34</cp:revision>
  <dc:subject/>
  <dc:title>Слайд 1</dc:title>
</cp:coreProperties>
</file>